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19.jpeg" ContentType="image/jpeg"/>
  <Override PartName="/ppt/media/image25.png" ContentType="image/png"/>
  <Override PartName="/ppt/media/image13.png" ContentType="image/png"/>
  <Override PartName="/ppt/media/image33.gif" ContentType="image/gif"/>
  <Override PartName="/ppt/media/image22.gif" ContentType="image/gif"/>
  <Override PartName="/ppt/media/image1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A788-385B-48A3-A509-AEB9D29E9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0E87-2191-4A70-99AC-BD5B07634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D006-6AC1-4B6A-A961-E9223093FC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E57A-F6F6-4502-8364-136DF7172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6D85-0DA2-44CD-8E68-C584678F4A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DF8-F9F4-45FA-8119-5043A814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B10-4E32-4EF6-8FA9-320EE018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54A-4F0C-4C10-89BD-A7F0DD3E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1B1-9D90-40D4-A074-8CC586C6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ACD-0CB1-4B8A-B148-064A1A4A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2E7-2770-41CF-A026-1623FDA8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52F-4F67-443A-B155-70532907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923-E9E4-4BEA-954D-F8CDF0F8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4F9-E6BC-4B43-99B2-A75BFC93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C1C-55EF-41D6-842C-166C9189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AF6-9E89-4F4F-AA9D-644634CD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024-ED7B-44B5-A981-728C098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E820-4184-4D64-9CE9-C8D4C4CC6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askha.ru/images/postcards/big/04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недельник и вторник – «купальные». Обливали водой тех, кто проспал утренний молеб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реда – «градовая». «В среду на Светлой неделе не работают, чтобы хлеб градом не побил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Четверг – Пасха усопших, поминовение почивших родстве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ятница – «прощеный день». Родственники и друзья просили прощения друг у друга. Тесть и теща звали в гости молодых, обвенчавшихся до Пас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уббота – хоровод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оскресенье – Красная горка. Обычно играли свадьбы, гуляли молод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981080" y="3808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Светлая седьмиц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1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506331292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4181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533520" y="2286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Рефлексия. "Раскрась пасхальное яйцо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14440" y="837720"/>
            <a:ext cx="4876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имв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лнце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света 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Крест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Треугольник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огня, бессме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Ветка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еч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ookman Old Style"/>
              </a:rPr>
              <a:t>Красный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– цвет радости, жизни,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ookman Old Style"/>
              </a:rPr>
              <a:t>Желт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освящается солнцу, луне, звез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Bookman Old Style"/>
              </a:rPr>
              <a:t>Зелен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изирует весну,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четание красного и белого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благодарение Бога за защиту от з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Bookman Old Style"/>
              </a:rPr>
              <a:t>Коричнев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лодородие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jajtsa50"/>
          <p:cNvPicPr/>
          <p:nvPr/>
        </p:nvPicPr>
        <p:blipFill>
          <a:blip r:embed="rId2"/>
          <a:stretch/>
        </p:blipFill>
        <p:spPr>
          <a:xfrm>
            <a:off x="7467480" y="5383080"/>
            <a:ext cx="1676520" cy="14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57266945_ppasha"/>
          <p:cNvPicPr/>
          <p:nvPr/>
        </p:nvPicPr>
        <p:blipFill>
          <a:blip r:embed="rId3"/>
          <a:stretch/>
        </p:blipFill>
        <p:spPr>
          <a:xfrm>
            <a:off x="1143000" y="4667400"/>
            <a:ext cx="380988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7266945_ppasha"/>
          <p:cNvPicPr/>
          <p:nvPr/>
        </p:nvPicPr>
        <p:blipFill>
          <a:blip r:embed="rId4"/>
          <a:stretch/>
        </p:blipFill>
        <p:spPr>
          <a:xfrm>
            <a:off x="-533520" y="4667400"/>
            <a:ext cx="381024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586719179"/>
          <p:cNvPicPr/>
          <p:nvPr/>
        </p:nvPicPr>
        <p:blipFill>
          <a:blip r:embed="rId5"/>
          <a:stretch/>
        </p:blipFill>
        <p:spPr>
          <a:xfrm>
            <a:off x="838080" y="25909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23662706_i3"/>
          <p:cNvPicPr/>
          <p:nvPr/>
        </p:nvPicPr>
        <p:blipFill>
          <a:blip r:embed="rId1"/>
          <a:stretch/>
        </p:blipFill>
        <p:spPr>
          <a:xfrm>
            <a:off x="838080" y="914400"/>
            <a:ext cx="772164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jajtsa50"/>
          <p:cNvPicPr/>
          <p:nvPr/>
        </p:nvPicPr>
        <p:blipFill>
          <a:blip r:embed="rId2"/>
          <a:stretch/>
        </p:blipFill>
        <p:spPr>
          <a:xfrm>
            <a:off x="7086600" y="5048280"/>
            <a:ext cx="2057400" cy="1809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1219320" y="2286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игр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3809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возь полудрему и 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лышу малиновый зво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рассвета гонцы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 травах звенят буб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средь русских рав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спыхнули гроздья ряб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в  родимой гл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-то коснулось 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иновый звон на за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ажи своей милой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 я в нее с  детства влюбл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к в  этот малиновый зв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990720" y="152280"/>
            <a:ext cx="761976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Малиновый зво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02" name="Picture 9" descr="4198871_large"/>
          <p:cNvPicPr/>
          <p:nvPr/>
        </p:nvPicPr>
        <p:blipFill>
          <a:blip r:embed="rId1"/>
          <a:stretch/>
        </p:blipFill>
        <p:spPr>
          <a:xfrm>
            <a:off x="3581280" y="6858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69607600_lunapic_12957119009874_4"/>
          <p:cNvPicPr/>
          <p:nvPr/>
        </p:nvPicPr>
        <p:blipFill>
          <a:blip r:embed="rId2"/>
          <a:stretch/>
        </p:blipFill>
        <p:spPr>
          <a:xfrm>
            <a:off x="5791320" y="2590920"/>
            <a:ext cx="2966760" cy="211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l_25352dc7"/>
          <p:cNvPicPr/>
          <p:nvPr/>
        </p:nvPicPr>
        <p:blipFill>
          <a:blip r:embed="rId3"/>
          <a:stretch/>
        </p:blipFill>
        <p:spPr>
          <a:xfrm>
            <a:off x="35053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_2"/>
          <p:cNvPicPr/>
          <p:nvPr/>
        </p:nvPicPr>
        <p:blipFill>
          <a:blip r:embed="rId4"/>
          <a:stretch/>
        </p:blipFill>
        <p:spPr>
          <a:xfrm>
            <a:off x="3657600" y="205740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_malinovyj_zvon.mp3" descr=""/>
          <p:cNvPicPr/>
          <p:nvPr/>
        </p:nvPicPr>
        <p:blipFill>
          <a:blip r:embed="rId5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203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5123909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914400" y="380880"/>
            <a:ext cx="74674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угоще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06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ажное место в пасхальном ритуа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анимала 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ул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Мясные 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436551004"/>
          <p:cNvPicPr/>
          <p:nvPr/>
        </p:nvPicPr>
        <p:blipFill>
          <a:blip r:embed="rId2"/>
          <a:stretch/>
        </p:blipFill>
        <p:spPr>
          <a:xfrm>
            <a:off x="762120" y="1371600"/>
            <a:ext cx="374328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Кулич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– церковно – обрядовый хлеб круглой формы. Пекли его из сдобного, сладкого теста, наверху украшали крестом, белковой глазурью, цветным пше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646990668"/>
          <p:cNvPicPr/>
          <p:nvPr/>
        </p:nvPicPr>
        <p:blipFill>
          <a:blip r:embed="rId1"/>
          <a:stretch/>
        </p:blipFill>
        <p:spPr>
          <a:xfrm>
            <a:off x="2362320" y="2666880"/>
            <a:ext cx="396216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457200" y="6858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Творожная пасха (паска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4304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 (паска) - творог со сливками или сметаной, спрессованный в виде усеченной пирамидки. По церковно-славянски она называется "млеко огустевшее". На боковых ее сторонах изображается крест и буквы "ХВ", что означает "Христос Воскрес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_5a254_3ebc3d41_XL"/>
          <p:cNvPicPr/>
          <p:nvPr/>
        </p:nvPicPr>
        <p:blipFill>
          <a:blip r:embed="rId2"/>
          <a:stretch/>
        </p:blipFill>
        <p:spPr>
          <a:xfrm>
            <a:off x="380880" y="1600200"/>
            <a:ext cx="37083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3523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редставить себе пасхальное поздравление без расписанного яйца. Обычай обмениваться на Пасху красным яйцом, говоря «Христос Воскресе!», очень давний. Христос дал нам жизнь, а яйцо — это знак жизни. Все христиане и приветствуют друг друга красным яйцом как знаком ве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946600" cy="452592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WordArt 9"/>
          <p:cNvSpPr txBox="1"/>
          <p:nvPr/>
        </p:nvSpPr>
        <p:spPr>
          <a:xfrm>
            <a:off x="1523880" y="457200"/>
            <a:ext cx="6324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яйц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164520" cy="689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541760" y="3638520"/>
            <a:ext cx="4443480" cy="282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77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Каждое яйцо имеет своё им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2" descr=""/>
          <p:cNvPicPr/>
          <p:nvPr/>
        </p:nvPicPr>
        <p:blipFill>
          <a:blip r:embed="rId3"/>
          <a:stretch/>
        </p:blipFill>
        <p:spPr>
          <a:xfrm>
            <a:off x="1085760" y="1073160"/>
            <a:ext cx="6997680" cy="21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71360" y="3713040"/>
            <a:ext cx="39736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2" descr=""/>
          <p:cNvPicPr/>
          <p:nvPr/>
        </p:nvPicPr>
        <p:blipFill>
          <a:blip r:embed="rId2"/>
          <a:stretch/>
        </p:blipFill>
        <p:spPr>
          <a:xfrm>
            <a:off x="0" y="0"/>
            <a:ext cx="5956200" cy="679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7126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7070760" y="476280"/>
            <a:ext cx="166680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5137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6"/>
          <a:stretch/>
        </p:blipFill>
        <p:spPr>
          <a:xfrm>
            <a:off x="5083200" y="54936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27760" y="1930320"/>
            <a:ext cx="1776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красили яйцо в жёлтый цвет, нанесли капли вос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 flipH="1">
            <a:off x="7015320" y="1930320"/>
            <a:ext cx="177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кунули в оранжевую краску, ещё покапали вос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5141880" y="4843440"/>
            <a:ext cx="17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окрасили в красный цвет. Осталось снять воск и натереть яйцо подсолнечным мас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126200" y="486900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Вот такое забавное яйцо получает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706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165480" y="4792680"/>
            <a:ext cx="273996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TextBox 4"/>
          <p:cNvSpPr/>
          <p:nvPr/>
        </p:nvSpPr>
        <p:spPr>
          <a:xfrm>
            <a:off x="108000" y="189000"/>
            <a:ext cx="885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нк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йца, раскрашенные от руки сюжетными или орнаментальными узорами. Это искусно расписанные пасхальные яйца, настоящие произведения народного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сунка писанки используют элементы раст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вотного мира, геометрические фиг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нку не рисовали, не расписывали, а писали на сыром курином яйце. Эти яйца хранили целый год, как обер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яйца линиями своих узоров как бы напоминают о бичевании Христа. Поэтому красить и расписывать яйца положено в особый день на Страстной седмице (неделе) - в Великий четверг или Великую пят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08000" y="4792680"/>
            <a:ext cx="275580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215040" y="4784760"/>
            <a:ext cx="2749680" cy="20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льное яйцо, зарытое на огороде или на поле, обеспечит плодородие и богатый 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, спрятанное в хлеву, спасет от болезней скот, увеличит надои мол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небо ясное и солнце играет – к хорошему урожаю и красному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дождь – к урож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второй день ясная погода  - лето будет сух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2286000" y="228600"/>
            <a:ext cx="65530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ародные приме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9" name="Picture 7" descr="467711866"/>
          <p:cNvPicPr/>
          <p:nvPr/>
        </p:nvPicPr>
        <p:blipFill>
          <a:blip r:embed="rId2"/>
          <a:stretch/>
        </p:blipFill>
        <p:spPr>
          <a:xfrm>
            <a:off x="228600" y="0"/>
            <a:ext cx="1905120" cy="12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2-01T14:16:4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